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6.jpeg" ContentType="image/jpeg"/>
  <Override PartName="/ppt/media/image5.wmf" ContentType="image/x-wmf"/>
  <Override PartName="/ppt/media/image27.jpeg" ContentType="image/jpeg"/>
  <Override PartName="/ppt/media/image12.jpeg" ContentType="image/jpeg"/>
  <Override PartName="/ppt/media/image7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825F-362C-47DF-B544-2CD7EB50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41FD-D9C1-478B-AB37-C65AA719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64B7-6D63-46D1-B726-71083D6E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C836-E2A3-44C9-A7F3-51570B612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F5CE-13DB-4C24-9E98-4D5621CD8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B30C-46CC-4625-A97E-BDCA3F11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C28B-AD1C-4026-B6D6-8EC44B7F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0466-4642-4507-8DDE-2754F95A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4E11-9E0C-40B3-A1C6-1189A1FD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79D7-15F3-4CEA-A563-7DCD9666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64E3-70BA-4FF9-84FC-B59E16B4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1682-1707-48B5-829A-F1142E70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ACDC-4B06-4439-BDA4-0BE9DFBB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B1E6-2AE9-4D86-A676-1BC54A96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7954-93EB-4D45-9215-2715FABB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BAE8-7F76-48DB-BD2E-B42B6C0B2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9FA9-8E66-4920-94F5-87633C2B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3623-88C5-42D5-BA38-EBA6A199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9147-835A-414F-BE77-746B4F11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F019-3021-4CE0-8A7C-4086AC81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08EB-4E9F-4F2E-80A3-178DF945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48B9-675C-47C4-B53D-4D7211C4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9BF3-888E-4D54-8808-55363CC7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ACD9-2F20-4404-8A64-A4EFC34C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B2BE-FC1B-4F43-9A05-FAB8CF89D4F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4CA0-7C2C-4E39-A661-DBE305E3A34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 rot="21156000">
            <a:off x="2209320" y="380880"/>
            <a:ext cx="4362480" cy="3132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ccecff"/>
                </a:solidFill>
                <a:latin typeface="Arial"/>
              </a:rPr>
              <a:t>Alcatraz</a:t>
            </a:r>
            <a:endParaRPr b="0" lang="en-US" sz="1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8" name="" descr="es-battle-1.jpg"/>
          <p:cNvPicPr/>
          <p:nvPr/>
        </p:nvPicPr>
        <p:blipFill>
          <a:blip r:embed="rId2"/>
          <a:stretch/>
        </p:blipFill>
        <p:spPr>
          <a:xfrm rot="21207000">
            <a:off x="2437920" y="3733560"/>
            <a:ext cx="4152960" cy="2923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ufus Roy McCa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7" name="" descr="es-mccain.jpg"/>
          <p:cNvPicPr/>
          <p:nvPr/>
        </p:nvPicPr>
        <p:blipFill>
          <a:blip r:embed="rId1"/>
          <a:stretch/>
        </p:blipFill>
        <p:spPr>
          <a:xfrm>
            <a:off x="0" y="0"/>
            <a:ext cx="3965400" cy="4038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954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lph Ro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9" name="" descr="es-roe.jpg"/>
          <p:cNvPicPr/>
          <p:nvPr/>
        </p:nvPicPr>
        <p:blipFill>
          <a:blip r:embed="rId1"/>
          <a:stretch/>
        </p:blipFill>
        <p:spPr>
          <a:xfrm>
            <a:off x="0" y="0"/>
            <a:ext cx="5132520" cy="5257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195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odore Co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1" name="" descr="es-cole-1.jpg"/>
          <p:cNvPicPr/>
          <p:nvPr/>
        </p:nvPicPr>
        <p:blipFill>
          <a:blip r:embed="rId1"/>
          <a:stretch/>
        </p:blipFill>
        <p:spPr>
          <a:xfrm>
            <a:off x="0" y="0"/>
            <a:ext cx="4773600" cy="4876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es-cole-2.jpg"/>
          <p:cNvPicPr/>
          <p:nvPr/>
        </p:nvPicPr>
        <p:blipFill>
          <a:blip r:embed="rId2"/>
          <a:stretch/>
        </p:blipFill>
        <p:spPr>
          <a:xfrm>
            <a:off x="4724280" y="1143000"/>
            <a:ext cx="4415040" cy="4495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181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seph Bow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4" name="" descr="es-bowers.jpg"/>
          <p:cNvPicPr/>
          <p:nvPr/>
        </p:nvPicPr>
        <p:blipFill>
          <a:blip r:embed="rId1"/>
          <a:stretch/>
        </p:blipFill>
        <p:spPr>
          <a:xfrm>
            <a:off x="0" y="0"/>
            <a:ext cx="3035160" cy="3581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580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hn Gi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6" name="" descr="es-giles.jpg"/>
          <p:cNvPicPr/>
          <p:nvPr/>
        </p:nvPicPr>
        <p:blipFill>
          <a:blip r:embed="rId1"/>
          <a:stretch/>
        </p:blipFill>
        <p:spPr>
          <a:xfrm>
            <a:off x="0" y="0"/>
            <a:ext cx="4681440" cy="3349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seph Paul Cretz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8" name="" descr="es-cretzer.jpg"/>
          <p:cNvPicPr/>
          <p:nvPr/>
        </p:nvPicPr>
        <p:blipFill>
          <a:blip r:embed="rId1"/>
          <a:stretch/>
        </p:blipFill>
        <p:spPr>
          <a:xfrm>
            <a:off x="0" y="1265400"/>
            <a:ext cx="5526000" cy="5592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342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rvin Hubbar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0" name="" descr="es-hubbard.jpg"/>
          <p:cNvPicPr/>
          <p:nvPr/>
        </p:nvPicPr>
        <p:blipFill>
          <a:blip r:embed="rId1"/>
          <a:stretch/>
        </p:blipFill>
        <p:spPr>
          <a:xfrm>
            <a:off x="0" y="0"/>
            <a:ext cx="4416480" cy="3416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144792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yde M. Johns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2" name="" descr="es-johnson.jpg"/>
          <p:cNvPicPr/>
          <p:nvPr/>
        </p:nvPicPr>
        <p:blipFill>
          <a:blip r:embed="rId1"/>
          <a:stretch/>
        </p:blipFill>
        <p:spPr>
          <a:xfrm>
            <a:off x="5184720" y="0"/>
            <a:ext cx="3959280" cy="5562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yde M. Johns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 September 29, 1958 Clyde and Aaron Burgett over powered an officer and attempted to swim away from Alcatra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yde was caught and Burgett was not until two weeks later they found his body floating in the b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167652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arence Angli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6" name="" descr="es-clarence-anglin.jpg"/>
          <p:cNvPicPr/>
          <p:nvPr/>
        </p:nvPicPr>
        <p:blipFill>
          <a:blip r:embed="rId1"/>
          <a:stretch/>
        </p:blipFill>
        <p:spPr>
          <a:xfrm>
            <a:off x="4724280" y="0"/>
            <a:ext cx="4295880" cy="640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9144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lcatraz Prison Cel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197760" y="0"/>
            <a:ext cx="2946240" cy="4419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2978280"/>
            <a:ext cx="5562720" cy="3879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2133720" cy="20113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038480" y="144792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s is Al Capon’s cell (cell B-18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lcatraz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t one point Alcatraz had a total of seven hundred fifty inma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el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catraz’s prison cell’s typical size was 5x7 fe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i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ttp://www.alcatrazhistory.com/escapes1.ht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096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l Capo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733920" y="1219320"/>
            <a:ext cx="5592600" cy="56386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l Capo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 Capone was a bad man but everyone has two sides, he was one of the most famous gangsters ever known and he was the first person ever to open a soup kitchen (a soup kitchen is a place were homeless people go to get some fo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43400" cy="2948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09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chine Gun Kell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1" name="" descr="mgk001004.jpg"/>
          <p:cNvPicPr/>
          <p:nvPr/>
        </p:nvPicPr>
        <p:blipFill>
          <a:blip r:embed="rId2"/>
          <a:stretch/>
        </p:blipFill>
        <p:spPr>
          <a:xfrm>
            <a:off x="4343400" y="1143000"/>
            <a:ext cx="4800600" cy="3029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mgk001005.jpg"/>
          <p:cNvPicPr/>
          <p:nvPr/>
        </p:nvPicPr>
        <p:blipFill>
          <a:blip r:embed="rId3"/>
          <a:stretch/>
        </p:blipFill>
        <p:spPr>
          <a:xfrm>
            <a:off x="0" y="3848040"/>
            <a:ext cx="3105000" cy="30099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mgk-1a.jpg"/>
          <p:cNvPicPr/>
          <p:nvPr/>
        </p:nvPicPr>
        <p:blipFill>
          <a:blip r:embed="rId4"/>
          <a:stretch/>
        </p:blipFill>
        <p:spPr>
          <a:xfrm>
            <a:off x="3124080" y="3857760"/>
            <a:ext cx="3076560" cy="3000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81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bert Strou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5" name="" descr="stroud-2001001.jpg"/>
          <p:cNvPicPr/>
          <p:nvPr/>
        </p:nvPicPr>
        <p:blipFill>
          <a:blip r:embed="rId1"/>
          <a:stretch/>
        </p:blipFill>
        <p:spPr>
          <a:xfrm>
            <a:off x="0" y="0"/>
            <a:ext cx="3581280" cy="2287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stroud-1.jpg"/>
          <p:cNvPicPr/>
          <p:nvPr/>
        </p:nvPicPr>
        <p:blipFill>
          <a:blip r:embed="rId2"/>
          <a:stretch/>
        </p:blipFill>
        <p:spPr>
          <a:xfrm>
            <a:off x="5133960" y="838080"/>
            <a:ext cx="4010040" cy="2600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stroud-1b.jpg"/>
          <p:cNvPicPr/>
          <p:nvPr/>
        </p:nvPicPr>
        <p:blipFill>
          <a:blip r:embed="rId3"/>
          <a:stretch/>
        </p:blipFill>
        <p:spPr>
          <a:xfrm>
            <a:off x="5133960" y="3429000"/>
            <a:ext cx="4010040" cy="2819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1295280" y="2209680"/>
            <a:ext cx="3505320" cy="22226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bert Strou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obert Stroud first came to Alcatraz in 1942 and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enri You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" descr="h-young001004.jpg"/>
          <p:cNvPicPr/>
          <p:nvPr/>
        </p:nvPicPr>
        <p:blipFill>
          <a:blip r:embed="rId1"/>
          <a:stretch/>
        </p:blipFill>
        <p:spPr>
          <a:xfrm>
            <a:off x="457200" y="1371600"/>
            <a:ext cx="4114800" cy="3429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0512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thur Doc Bark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" descr="es-barker.jpg"/>
          <p:cNvPicPr/>
          <p:nvPr/>
        </p:nvPicPr>
        <p:blipFill>
          <a:blip r:embed="rId1"/>
          <a:stretch/>
        </p:blipFill>
        <p:spPr>
          <a:xfrm>
            <a:off x="0" y="0"/>
            <a:ext cx="3678120" cy="37339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0:28:32Z</dcterms:created>
  <dc:creator>Thomas A. Nowak</dc:creator>
  <dc:description/>
  <dc:language>en-US</dc:language>
  <cp:lastModifiedBy>Thomas Nowak</cp:lastModifiedBy>
  <dcterms:modified xsi:type="dcterms:W3CDTF">2010-03-25T23:26:42Z</dcterms:modified>
  <cp:revision>7</cp:revision>
  <dc:subject/>
  <dc:title>Alcatraz</dc:title>
</cp:coreProperties>
</file>